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9F3-BEDF-47E2-88D2-81953F9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C2B-1709-4A8D-BC5D-3DEC1FD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FF86F-741B-4C67-8CD9-2641DC11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3BE89-C235-4865-BA49-2B1E224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E875-3C73-4AF5-9E78-02A4FEF5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1AA4A-C64C-4977-B620-2633329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9532C-8A75-4BB0-8099-47C0CC2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4064B-0586-4D82-A1AD-B0EDF089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1C3D-158E-44D6-BA4B-5DF0609E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E4C81-DCBE-4DB3-B858-1F04433E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B0F77-5515-4107-AA2C-D8EE96E8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A5DB9-D861-424B-B329-737B6430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37B-5EBE-4FAE-9747-D2C04B57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974F3-8A7C-417D-852E-7325C82A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14AE2-F78A-4761-BCED-199AF1B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89CA7-2D4E-4DD2-BD3C-B74BBDB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D9D8D-61F4-4D57-8677-95483F7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0FFD-7A2E-422A-B8C7-BC107AEE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06736-7BFC-48C0-BAB5-47EF28A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FB69A-CF7D-4442-B650-6E02FDA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1683A-D9C2-4469-96A4-BA1B80D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F194B-2C36-4750-A75C-93D7EF1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135C0-72C7-47D2-88BB-FB12E926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A66-CCFE-41EB-9C4A-EE117CA2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7D0B2-AABF-4011-874D-F014EC98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0E2467-31AC-4393-9D28-4C96942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3AFA44-D4E4-4300-AFD2-6DDF1BB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B805A-09DF-47C1-AB3D-777FD4B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BB5313-93D0-4C7D-B604-066B856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558A99-B733-4C37-B851-6145BE68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744141-727D-476B-80A3-4079A94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021581-287A-43A5-B952-118A20D1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43E0C5-0823-47D5-B716-97C96DB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91308A-30BA-4BF7-BCF3-5894A16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5CD-E00D-4BF1-8E39-17B76583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3402E4-7055-401C-9CCF-9F291B46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B269AF-6E52-4705-9204-97208537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88CE8F-EA05-4BEC-A789-0198E657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239F2-235A-4EFF-90C3-77BA0B65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FEB55-E8FA-4170-BC74-FC3871C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C76AB-A78B-481E-A686-E0F0D75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AA0CA-29D2-4783-8F43-81EBD4A7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11B5B-5302-47EF-A93B-EE5F651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3D770-506D-4051-87F9-C66BD744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3B14A-CB05-4D4E-A766-6174765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408E-E9AB-4B76-9B42-CDA99C23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1BFC3-1F2A-44C5-ADBC-4E89A10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B150B-6B54-4686-9E7E-7652B87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81879-7D69-485A-8557-117743F5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23EF7-33A6-4FD9-8F28-E22AED5C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A6047-6406-4087-8F0A-3706D54E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2C2C1-325D-49D7-A7C6-76F7279A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441A5-9B98-4BE3-9301-6F08A7D2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22284-1602-4C54-A3E2-4FBC496B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D5B96-9CDD-4B0B-923B-93F88D7B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1449E-8745-4CD1-AAAF-DF58AF8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884F-A482-4C46-A85F-EC8F17C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2EFF2-4FE0-47DA-B760-E0C99CC2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A9F9F-8B52-4725-87AA-2FEACAD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4153B-5761-477B-B28F-2287E94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91912-6BCE-496D-92B2-B85F7CF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ED28B-59E1-4993-8EDF-355E9F8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12745-345B-4ED6-9867-9B5FFD5D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3D160-C229-4355-96A1-A52E56CE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8C3DF-C16C-4B73-88BE-5B0827C0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AC1B5-0F0C-4E34-974F-25F836A8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0C5BC-99D9-4EE3-B882-0D90556F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4D05-6832-4B94-B1DC-654CFBBA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45D11-3F75-44B3-9481-21ABD076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AADED-7C88-45A1-B541-61D1C32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ED556-D128-48AA-B770-D68C165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E21F1-3AA4-42B6-BD4E-AD545C7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9F2D4-8D60-4B12-939C-E5D0496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71186-7508-429B-AF43-049B4646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6B4FE-F115-4A3D-9AD9-C22EF6E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5B968-F81F-4469-AD47-BAB294DA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C00B9-3D39-4BD2-8B36-DD564EF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85DB-12EA-4081-B834-F58DA448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23A0-EE4A-4DA8-B6CC-3F467BD0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EFBB-D549-4EDD-A6F3-2310389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25F-1442-4255-855D-D5362AE9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5258-A821-4BF3-A5C4-73863D5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29A-8DDF-4DB2-8893-BD9D5423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114-1091-4124-8AAD-0B9A383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5ACD-E261-4C4C-A3A9-5B2CFD98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74AB-BBA2-415E-A858-50C9B167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E391-9C91-4B66-94EA-85E0F9F8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4C75-CA55-4D09-8A2F-38C8C78F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311C-86CE-4915-9303-BF27F40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1FD5-661C-4D52-80B3-313666A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B34F-4BE8-4DDE-B44D-5399A227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86E-E288-475E-8CAC-FF1AB37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F525-82D5-4A48-A9D0-42F9B62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19C7-550E-42CA-A078-830801E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0347-7222-445A-BB6E-9B33A4D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329B-FA85-434B-BAB4-762C951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9D13-9F1C-4059-B129-125C422D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A6E6-EEDE-4531-BBD2-3E5C49DE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64F2-8AE7-47B9-9EEC-A09F4D3D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C215-D228-432B-A501-F4F9FAE6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43A7-C94C-4B01-A348-20F7D63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AFA1-6B6D-4323-BA75-B30347D0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3FB-61F9-48EE-BFD0-18AC3E3D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1649-57F9-43F9-B6CD-C914EEE8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0C6D-CC0E-4F17-82D3-1F06D04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74A4-9739-4B0D-A9A0-30D2055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93F5-2EE0-407D-B989-86E70BE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1B4C-64D5-460F-9AC7-88F752F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D643-1C83-43CE-B5DE-9738598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0A17-BBDD-47A4-99D3-C1EA955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77E1-9F04-4D1B-8D60-358DEF53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1961-A813-4D3E-A22C-36C12F26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30906-5BA6-4BBD-BC35-C015C65C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9F9-9BA7-4C94-B3FA-536B83B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48EEB-1404-4851-A99E-5CA1720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07EA9-393B-47E1-B32C-8AD995A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7D469-CF98-453F-8AF5-52234A27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FB2D9-C902-4D54-AF46-B875657C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44D81-1E6B-4370-8C9C-D24C6A4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F2AE6-434A-4D06-B889-0B0E5EA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60FBB-C436-4B9E-9516-E96E477E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9E0AA-27B6-4C01-869A-253AA21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096C3-8E8C-49BB-A50E-C2D14B1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87E3D-683C-4AD5-9F66-DE5791E3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C4E-E4FA-4E0D-9506-C6D9102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CA7F3-55B7-4B4C-8C02-2538724A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BDFD-858C-4187-AC95-DE08DEFC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BD7B-A897-4D83-B2DC-2FDC1A4D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D777-F525-4314-93D2-5D5D1BA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B1D2F-C7C5-4394-8415-12831567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084A-2471-4A6A-9082-460F891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5AA3-6246-430A-91CB-FA41AD9D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B52E6-EC8C-4ED3-A5D1-458C898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A7FD6-0200-4C5E-B960-DF412EC8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9CD83-E97B-4FB3-BD31-982F2EF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46F-C31F-4988-AAE0-C09B4761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B6CF-3AE1-4534-BF88-DABC0F42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D6A4-BDBC-444B-9793-49A9A449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9E710-BD70-48B0-88EF-7F42BCE7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8C073-BAD2-47CB-9A27-710BC0B3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4D5E-0D6B-4C13-8B15-23294790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0F33B-171E-47F9-A7A7-65711F9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382C0-5896-4657-B2C1-CEBA781D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3C847-2916-4497-BD77-3D592E38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4A8A1-489A-45E4-A40E-292DE284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69F9-C828-4D6E-8DBD-DBD8839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709-BDC0-4464-B092-6953ED0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893DE-3789-4B84-982C-8A06837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0E69-9CC6-4472-ACD4-7763509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DE09-0D5C-46DA-9730-6C72CA67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BB58-CB36-44E4-9EC9-AF0E301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F084-2D6B-449F-8200-085FD34B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54ACC-82C2-4A1B-B482-F250E1DE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ED83-E7AF-498D-89C1-00DD28A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7011-98EA-43D8-B8BB-C122951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D02D-93C4-4367-BF2B-7100CD9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DCDFE-4B60-4816-9C1B-0AB82328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90E-AD85-451B-B9DA-B0F0C60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9D90-F40B-43FB-B192-37FE97C9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24AD4-738B-49A4-88DF-C3E4186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99DB-5EFB-4918-B413-121B0070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15BD8-6C0D-4BCF-83BB-3B44EC5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673C2-0403-4DC1-A253-9154F935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02C96-CC90-42AD-93EC-043F2FD5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F8479-DC7A-43F9-8EA6-6F70442F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B6930-0EA0-4DB1-92F7-7F53FB1B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36374-EFD1-4BF4-98CC-E48512EF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23117-4355-4CAD-970A-8166165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54B-C6DC-4291-B2B6-C8987B63B2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1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3078-DF9D-47C4-AE2D-8496636B10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F15-7A5B-43BD-B790-F5E99524B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D422-362C-4CCF-A474-F7B9847DD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6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86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87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7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27AE-6F3C-4B7E-91C6-3D8B625A5FF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3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5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6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4B74-A64A-4310-BC44-21CCFF7F207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0004-500A-48FE-A1E5-091383AB5D6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DE82-826D-44BE-92EE-44B4434531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A48F-F03D-4A70-BD0F-30347C65A71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00A6-4A0F-4186-8595-430B23DDED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40B-3F7F-4DB8-9D82-3677B96E50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5D35-A8DF-43CC-A27E-DA24EF478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12B-882D-41C0-A501-E39D7CD24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462D-FA2C-4135-90C6-26E6393C27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60;&#1072;&#1081;&#1083;:Backing_sheep_at_sheepdog_competit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Impact"/>
              </a:rPr>
              <a:t>ДИКИЕ ЗВЕРИ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а 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2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0343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Какая пословица гласит о том, что дикого зверя нельзя приручит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929"/>
                </a:solidFill>
                <a:latin typeface="Tahoma"/>
              </a:rPr>
              <a:t>«Сколько волка не корми, а он всё в лес смот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Желаю вам успехов в получе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579760" cy="3895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Возможно ли приручить дикого зверя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4546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035680" y="2060640"/>
            <a:ext cx="3289320" cy="36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Georgia"/>
              </a:rPr>
              <a:t>Назовите одомашненных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ба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есные хорь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ВОЯД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в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ошади, в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ЕСПОЗВОНОЧ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чёл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овый шелкопря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7" name="" descr="Backing sheep at sheepdog competi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145764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Знаете ли вы каких животных          нельзя приручить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Чёрный воро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Каба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Лошадь Пржевальског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016520" y="1919160"/>
            <a:ext cx="399384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х животных уже не существует в природ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блезубый тиг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мо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прачный тап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йский носо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0" y="1771560"/>
          <a:ext cx="41911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1560"/>
                    <a:ext cx="41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Какие вы знаете изменения признаков после одомашнивания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кращение массы мозга на 20-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итупление остроты восприятия(зрение, слух, обоня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Изменение или исчезновение некоторых форм поведения( к примеру- понижение агрессив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Уменьшение зубов и р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явление разнообразных мастей и окр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Редукция волосяного покрова (свинь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Менее развитый инстинкт защиты пото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вышенная плодовит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то был предком домашней лошад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78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375120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ути одомашни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уть привыкания животного к челове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ильствен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5796000" y="1268280"/>
          <a:ext cx="19065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68280"/>
                    <a:ext cx="19065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183672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ое, прирученное человеком животно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БАКА, предком которой был вол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5800680" y="1600200"/>
            <a:ext cx="1733760" cy="2185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5338800" y="3938760"/>
            <a:ext cx="26575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43:52Z</dcterms:created>
  <dc:creator>User</dc:creator>
  <dc:description/>
  <dc:language>en-US</dc:language>
  <cp:lastModifiedBy>07083</cp:lastModifiedBy>
  <dcterms:modified xsi:type="dcterms:W3CDTF">2009-11-05T13:14:12Z</dcterms:modified>
  <cp:revision>13</cp:revision>
  <dc:subject/>
  <dc:title>ДИКИЕ ЗВЕРИ</dc:title>
</cp:coreProperties>
</file>